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CAA-5701-4959-A1F8-423C8F85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FB3-9C0B-4397-88B8-A399CA13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A27-0361-41BA-9DBB-5A69A84A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310-535F-4EE7-9B1D-0BACEC0B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8E9-6B42-4C11-B005-86765CB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B6F-DE16-47CC-98F8-EF32807E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766-9C07-4EC6-86CF-D1279C88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26F-BB87-474D-9284-5E9ED8CD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6EE-1FFE-445A-9589-9FF36023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56F-3B7E-4049-9B98-5199B14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895-7CC9-4057-A637-0F5146DB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CAA-E3EF-4C1F-9B88-884C585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3061-EBA8-48B1-B21B-DF818AED0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7840" y="14479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ten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2 x c Tab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6460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766" r="0" b="32144"/>
          <a:stretch/>
        </p:blipFill>
        <p:spPr>
          <a:xfrm>
            <a:off x="533520" y="3657600"/>
            <a:ext cx="8076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67868" r="0" b="23057"/>
          <a:stretch/>
        </p:blipFill>
        <p:spPr>
          <a:xfrm>
            <a:off x="533520" y="365760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6956" r="0" b="16998"/>
          <a:stretch/>
        </p:blipFill>
        <p:spPr>
          <a:xfrm>
            <a:off x="533520" y="3657600"/>
            <a:ext cx="807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8377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72"/>
          <a:stretch/>
        </p:blipFill>
        <p:spPr>
          <a:xfrm>
            <a:off x="838080" y="609480"/>
            <a:ext cx="76201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74640" r="0" b="7460"/>
          <a:stretch/>
        </p:blipFill>
        <p:spPr>
          <a:xfrm>
            <a:off x="838080" y="4419720"/>
            <a:ext cx="7620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685800" y="8380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74721" t="36763" r="6001" b="42584"/>
          <a:stretch/>
        </p:blipFill>
        <p:spPr>
          <a:xfrm>
            <a:off x="6705720" y="28954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75543" t="36763" r="3997" b="43785"/>
          <a:stretch/>
        </p:blipFill>
        <p:spPr>
          <a:xfrm>
            <a:off x="6705720" y="4191120"/>
            <a:ext cx="144756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33760" y="25527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65073" t="54250" r="24220" b="31456"/>
          <a:stretch/>
        </p:blipFill>
        <p:spPr>
          <a:xfrm>
            <a:off x="7010280" y="25909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68002" t="53236" r="22311" b="31806"/>
          <a:stretch/>
        </p:blipFill>
        <p:spPr>
          <a:xfrm>
            <a:off x="7010280" y="3809880"/>
            <a:ext cx="685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2619"/>
          <a:stretch/>
        </p:blipFill>
        <p:spPr>
          <a:xfrm>
            <a:off x="457200" y="60948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7080" y="514368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t gro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-CH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181480"/>
            <a:ext cx="2286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9338"/>
          <a:stretch/>
        </p:blipFill>
        <p:spPr>
          <a:xfrm>
            <a:off x="762120" y="4572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5009"/>
          <a:stretch/>
        </p:blipFill>
        <p:spPr>
          <a:xfrm>
            <a:off x="533520" y="380880"/>
            <a:ext cx="8076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8537"/>
          <a:stretch/>
        </p:blipFill>
        <p:spPr>
          <a:xfrm>
            <a:off x="76212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1:53:11Z</dcterms:modified>
  <cp:revision>217</cp:revision>
  <dc:subject/>
  <dc:title>Slide 1</dc:title>
</cp:coreProperties>
</file>